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E57A-EA78-4DAC-9F41-39A66AE56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8FED-A080-47C2-AC58-8137BA89F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7101-90D2-4392-93CC-43B01AC8F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DAA1-C2BF-468B-81A3-B7316E2C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F9C9-B1C3-4D4B-B8B7-C07946DB8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8E1D-E63A-44F5-9B12-E036E04BF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6948-F128-4540-A162-59E823312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4EF0-F01A-4A37-AB0C-274A67F2B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7E59-64E6-4292-8B39-64E5E4771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4953-68CD-4282-BE15-E4F0606F8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3DC9-157B-443F-8E73-6073F19E4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2509-5034-455D-B522-DA47CDB5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7EB2-D4BA-451F-831B-0F1329BCF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A5AB-91FD-480B-ACC1-7DB90B2DD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3081-E486-4B53-B8A1-26620EF5B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5511-41C7-4A0A-AB6C-F66978AD9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B6C6-241F-499B-B232-BA830F069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FFDB-17EE-430F-A908-2F6CFAAC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EBCA-8E23-410A-99E3-4EC022947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293A-0888-4897-8A88-774FE8416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2A03-2AD1-434F-9D72-747F9F8FA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B9D6-0596-49D7-9F92-560D9A7EA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E9D3-B7EA-461F-9AFF-FECE8F795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3C8-D9D3-46EE-8FD5-84584606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A1F-C9D9-4C80-9976-BC94DC9B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B12-3E6E-433F-AAB5-CB8EC3D7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200-D6DD-412A-9B93-AE5EDE58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68B-AA34-4251-81C4-EAE61215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BFD-C3B7-407F-AD1D-DA50E56C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F0F-73CC-412B-992F-9E42814A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0E8-E0EC-4937-8D10-A686560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5AB-2A8C-4D0A-85A0-EB3145C3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780-FD62-4005-86A5-2B18C36B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BEA-EEA7-4C19-BD0C-32D07C74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A99-E30F-4DAE-A8FF-8446154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FF6A-9882-46C6-9867-747C6C73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s.timesunion.com/capitol/wp-content/uploads/2008/08/medicaid-budget-cuts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beta.laschoolboard.org/files/images/LAUSDLogo.gif&amp;imgrefurl=http://beta.laschoolboard.org/lausdlive&amp;usg=__O2kB7AT0QnY5Tx_lbS9qZZn66a4=&amp;h=838&amp;w=836&amp;sz=47&amp;hl=en&amp;start=1&amp;tbnid=CTAa645D6KR0PM:&amp;tbnh=144&amp;tbnw=144&amp;prev=/images?q=lausd&amp;gbv=2&amp;hl=en&amp;safe=active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amapm.com/html-images/LAUSD1.jpg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www.lastudentscount.org/images/LAUSDmap.jpg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www.wall.org/~larry/onion/prohibit.gif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www.carnegie.org/reporter/09/images/literacy1.jpg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kramtark.files.wordpress.com/2007/09/cimg3628.jpg&amp;imgrefurl=http://kramtark.wordpress.com/2007/09/06/psych-101/&amp;usg=__bKIKUtuVFo2azB54LWCvPu6Zgek=&amp;h=768&amp;w=1024&amp;sz=286&amp;hl=en&amp;start=2&amp;tbnid=2o1SdTrrXontmM:&amp;tbnh=113&amp;tbnw=150&amp;prev=/images?q=large+class+size&amp;gbv=2&amp;hl=en&amp;safe=active" TargetMode="External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e-rockford.com/applesauce/files/2009/01/layoff-notice.jpg&amp;imgrefurl=http://blogs.e-rockford.com/applesauce/2009/01/&amp;usg=__BpI6-iBG4Mp3IBcOVyIMDUoOatE=&amp;h=240&amp;w=240&amp;sz=22&amp;hl=en&amp;start=2&amp;tbnid=LeXQQFB0BUCpkM:&amp;tbnh=110&amp;tbnw=110&amp;prev=/images?q=layoff+notice&amp;gbv=2&amp;hl=en&amp;safe=activ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e-rockford.com/applesauce/files/2009/01/layoff-notice.jpg&amp;imgrefurl=http://blogs.e-rockford.com/applesauce/2009/01/&amp;usg=__BpI6-iBG4Mp3IBcOVyIMDUoOatE=&amp;h=240&amp;w=240&amp;sz=22&amp;hl=en&amp;start=2&amp;tbnid=LeXQQFB0BUCpkM:&amp;tbnh=110&amp;tbnw=110&amp;prev=/images?q=layoff+notice&amp;gbv=2&amp;hl=en&amp;safe=activ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tuhsc.edu/centers/aging/images/caringWEB.jpg&amp;imgrefurl=http://www.ttuhsc.edu/centers/aging/caregivers.aspx&amp;usg=__vRMpHozt16YDbuN6BFpsKT9M2bc=&amp;h=360&amp;w=540&amp;sz=39&amp;hl=en&amp;start=5&amp;tbnid=E3CXCM92sQD7DM:&amp;tbnh=88&amp;tbnw=132&amp;prev=/images?q=caring&amp;gbv=2&amp;hl=en&amp;safe=active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sy2.ucsd.edu/~kang/child%2520pictures/children-jump.jpg&amp;imgrefurl=http://psy2.ucsd.edu/~kang/Welcome%2520page.htm&amp;usg=__GJAfw9hosPYebSbd_tmE9IXN2Co=&amp;h=305&amp;w=400&amp;sz=33&amp;hl=en&amp;start=2&amp;tbnid=nsqhJiJv_L7gPM:&amp;tbnh=95&amp;tbnw=124&amp;prev=/images?q=children&amp;gbv=2&amp;hl=en&amp;safe=active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sy2.ucsd.edu/~kang/child%2520pictures/children-jump.jpg&amp;imgrefurl=http://psy2.ucsd.edu/~kang/Welcome%2520page.htm&amp;usg=__GJAfw9hosPYebSbd_tmE9IXN2Co=&amp;h=305&amp;w=400&amp;sz=33&amp;hl=en&amp;start=2&amp;tbnid=nsqhJiJv_L7gPM:&amp;tbnh=95&amp;tbnw=124&amp;prev=/images?q=children&amp;gbv=2&amp;hl=en&amp;safe=active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santiagotimes.cl/santiagotimes/images/stories/easygallery/45/1195588650_high%2520school%2520students.jpg&amp;imgrefurl=http://www.santiagotimes.cl/santiagotimes/index.php/component/option,com_easygallery/Itemid,46/act,categories/cid,45/&amp;usg=__Lged65vaDR2pSpHatNoAtG_QKZw=&amp;h=375&amp;w=500&amp;sz=107&amp;hl=en&amp;start=4&amp;tbnid=36BDb_Jisw7coM:&amp;tbnh=98&amp;tbnw=130&amp;prev=/images?q=high+school+students&amp;gbv=2&amp;hl=en&amp;safe=active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uardianpoolfence.com/Photos/removable-mesh-pool-fences.jpg&amp;imgrefurl=http://www.guardianpoolfence.com/removable-mesh-pool-fences.html&amp;usg=__P-5jhysNPDQVZYIi1tT-oC6rqy0=&amp;h=265&amp;w=400&amp;sz=35&amp;hl=en&amp;start=27&amp;tbnid=ADb4qyZWVAWLzM:&amp;tbnh=82&amp;tbnw=124&amp;prev=/images?q=fence+by+children&amp;start=20&amp;gbv=2&amp;ndsp=20&amp;hl=en&amp;safe=active&amp;sa=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uildingsurveyingsolutions.co.uk/data/rics/webimag/boundary_disputes.jpg&amp;imgrefurl=http://www.buildingsurveyingsolutions.co.uk/english/05-bound.htm&amp;usg=__Jx3Dj-zMdcMJMerGGnrGCLqJr3U=&amp;h=320&amp;w=430&amp;sz=7&amp;hl=en&amp;start=5&amp;tbnid=3cmkEHbQz3nBcM:&amp;tbnh=94&amp;tbnw=126&amp;prev=/images?q=boundary&amp;gbv=2&amp;hl=en&amp;safe=active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tonewall.nist.gov/CONTENT/wall199c.jpg&amp;imgrefurl=http://stonewall.nist.gov/CONTENT/Location.htm&amp;usg=__-nf1AKPL6nbuQy2Oq-9v-8_MZdA=&amp;h=946&amp;w=766&amp;sz=184&amp;hl=en&amp;start=5&amp;tbnid=efo8HJYwwZkTTM:&amp;tbnh=148&amp;tbnw=120&amp;prev=/images?q=wall&amp;gbv=2&amp;hl=en&amp;safe=active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ro.corbis.com/images/42-15207423.jpg?size=67&amp;uid=%257BD2B5CB1E-0C57-4CE3-8C1B-BA176D7BFD64%257D&amp;imgrefurl=http://pro.corbis.com/search/Enlargement.aspx?CID=isg&amp;mediauid=%257BD2B5CB1E-0C57-4CE3-8C1B-BA176D7BFD64%257D&amp;usg=__oyySA84uxm2Eg7Eh9R7EEUMTp2o=&amp;h=426&amp;w=640&amp;sz=133&amp;hl=en&amp;start=33&amp;tbnid=8Zj88HUJyXawBM:&amp;tbnh=91&amp;tbnw=137&amp;prev=/images?q=chain+link+fence+with+holes&amp;start=20&amp;gbv=2&amp;ndsp=20&amp;hl=en&amp;safe=active&amp;sa=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bp0.blogger.com/_AS1aErDzEdI/R0_e3bJ2WrI/AAAAAAAAA14/q8PxtB-AUo4/s1600-R/Bangladesh+2007+118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385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MCj04396130000[1]"/>
          <p:cNvPicPr/>
          <p:nvPr/>
        </p:nvPicPr>
        <p:blipFill>
          <a:blip r:embed="rId1">
            <a:lum bright="56000"/>
          </a:blip>
          <a:stretch/>
        </p:blipFill>
        <p:spPr>
          <a:xfrm>
            <a:off x="1219320" y="0"/>
            <a:ext cx="6705360" cy="708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MPj04014790000[1]"/>
          <p:cNvPicPr/>
          <p:nvPr/>
        </p:nvPicPr>
        <p:blipFill>
          <a:blip r:embed="rId2"/>
          <a:stretch/>
        </p:blipFill>
        <p:spPr>
          <a:xfrm>
            <a:off x="2514600" y="1295280"/>
            <a:ext cx="4038480" cy="2691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066680" y="4226040"/>
            <a:ext cx="73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Japanese Gothic"/>
              </a:rPr>
              <a:t>Local District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828800" y="5522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Japanese Gothic"/>
              </a:rPr>
              <a:t>March 11,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280" y="30492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Japanese Gothic"/>
              </a:rPr>
              <a:t>21st Century Learn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eadership"/>
          <p:cNvPicPr/>
          <p:nvPr/>
        </p:nvPicPr>
        <p:blipFill>
          <a:blip r:embed="rId1"/>
          <a:stretch/>
        </p:blipFill>
        <p:spPr>
          <a:xfrm>
            <a:off x="1752480" y="3657600"/>
            <a:ext cx="323856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nonymous-leadership-5000373"/>
          <p:cNvPicPr/>
          <p:nvPr/>
        </p:nvPicPr>
        <p:blipFill>
          <a:blip r:embed="rId2"/>
          <a:stretch/>
        </p:blipFill>
        <p:spPr>
          <a:xfrm>
            <a:off x="3809880" y="304920"/>
            <a:ext cx="4551480" cy="32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Leadership-Pyramid"/>
          <p:cNvPicPr/>
          <p:nvPr/>
        </p:nvPicPr>
        <p:blipFill>
          <a:blip r:embed="rId3"/>
          <a:stretch/>
        </p:blipFill>
        <p:spPr>
          <a:xfrm>
            <a:off x="5638680" y="3352680"/>
            <a:ext cx="2619360" cy="336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www.jewsonfirst.org/images/obama8.jpg"/>
          <p:cNvPicPr/>
          <p:nvPr/>
        </p:nvPicPr>
        <p:blipFill>
          <a:blip r:embed="rId4"/>
          <a:stretch/>
        </p:blipFill>
        <p:spPr>
          <a:xfrm>
            <a:off x="457200" y="228600"/>
            <a:ext cx="2865600" cy="3565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838080" y="2971800"/>
            <a:ext cx="28195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s, we ca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648320" y="2971800"/>
            <a:ext cx="32004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ssible Budget Cut Impa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352680" cy="217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LAUSD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28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129528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33526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05120" y="2666880"/>
            <a:ext cx="4038480" cy="282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038480" y="228600"/>
            <a:ext cx="4572000" cy="257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img3628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9720" y="3105000"/>
            <a:ext cx="4403520" cy="3303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952880" y="4191120"/>
            <a:ext cx="2362320" cy="1191240"/>
          </a:xfrm>
          <a:prstGeom prst="rect">
            <a:avLst/>
          </a:prstGeom>
          <a:solidFill>
            <a:srgbClr val="f5d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0: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762120" y="2971800"/>
            <a:ext cx="2590560" cy="1312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sistant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429000" y="1447920"/>
            <a:ext cx="472428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ed sta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layoff-not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662040"/>
            <a:ext cx="6400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layoff-not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662040"/>
            <a:ext cx="6400800" cy="59436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1905120" y="1600200"/>
            <a:ext cx="54864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arch 15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aringWE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990720"/>
            <a:ext cx="723924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children-ju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4114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hildren-ju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4114800" cy="315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1195588650_high%2520school%2520studen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389320"/>
            <a:ext cx="51814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removable-mesh-pool-fen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644480"/>
            <a:ext cx="65530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oundary_dispu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474920"/>
            <a:ext cx="60958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The iStud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SCN0875"/>
          <p:cNvPicPr/>
          <p:nvPr/>
        </p:nvPicPr>
        <p:blipFill>
          <a:blip r:embed="rId1"/>
          <a:stretch/>
        </p:blipFill>
        <p:spPr>
          <a:xfrm>
            <a:off x="6324480" y="3200400"/>
            <a:ext cx="2608560" cy="26668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9" name="Picture 7" descr="j0414104"/>
          <p:cNvPicPr/>
          <p:nvPr/>
        </p:nvPicPr>
        <p:blipFill>
          <a:blip r:embed="rId4"/>
          <a:stretch/>
        </p:blipFill>
        <p:spPr>
          <a:xfrm>
            <a:off x="2209680" y="2743200"/>
            <a:ext cx="4038840" cy="3171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990720" y="5335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ge Prepared and Career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http://www.tradesandtech.ethoscmg.com/Trades_and_Technology_Toolbox_paper_mill_Feb_2006.jpg"/>
          <p:cNvPicPr/>
          <p:nvPr/>
        </p:nvPicPr>
        <p:blipFill>
          <a:blip r:embed="rId5"/>
          <a:stretch/>
        </p:blipFill>
        <p:spPr>
          <a:xfrm>
            <a:off x="5486400" y="1847880"/>
            <a:ext cx="3162240" cy="237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okanagan.bc.ca/Assets/Departments+(Education)/Trades+$!26+Apprenticeship/Welding/Images/Welding+TradesACata+Image+07439g+18.jpg"/>
          <p:cNvPicPr/>
          <p:nvPr/>
        </p:nvPicPr>
        <p:blipFill>
          <a:blip r:embed="rId6"/>
          <a:stretch/>
        </p:blipFill>
        <p:spPr>
          <a:xfrm>
            <a:off x="609480" y="4038480"/>
            <a:ext cx="174636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http://www.acmestores.com/images/chef_marc2.jpg"/>
          <p:cNvPicPr/>
          <p:nvPr/>
        </p:nvPicPr>
        <p:blipFill>
          <a:blip r:embed="rId7"/>
          <a:stretch/>
        </p:blipFill>
        <p:spPr>
          <a:xfrm>
            <a:off x="6553080" y="3962520"/>
            <a:ext cx="221940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8"/>
          <a:stretch/>
        </p:blipFill>
        <p:spPr>
          <a:xfrm>
            <a:off x="2590920" y="19051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9"/>
          <a:stretch/>
        </p:blipFill>
        <p:spPr>
          <a:xfrm>
            <a:off x="685800" y="16002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wall199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9144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42-152074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143000"/>
            <a:ext cx="69343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533520" y="2286000"/>
            <a:ext cx="8001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dget Process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undred%2520dollar%2520bill"/>
          <p:cNvPicPr/>
          <p:nvPr/>
        </p:nvPicPr>
        <p:blipFill>
          <a:blip r:embed="rId1"/>
          <a:stretch/>
        </p:blipFill>
        <p:spPr>
          <a:xfrm>
            <a:off x="838080" y="1828800"/>
            <a:ext cx="7543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undred%2520dollar%2520bill"/>
          <p:cNvPicPr/>
          <p:nvPr/>
        </p:nvPicPr>
        <p:blipFill>
          <a:blip r:embed="rId1"/>
          <a:stretch/>
        </p:blipFill>
        <p:spPr>
          <a:xfrm>
            <a:off x="838080" y="1981080"/>
            <a:ext cx="754380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533520" y="1295280"/>
            <a:ext cx="80769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ore categorical money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 interest of th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will receive a guaranteed, viable curriculum so that by June, 2008, the following percentage of student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luding subgroups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, SEL and Sp.Ed. Studen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t proficient or advanced as evidenced by these NCLB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.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 interest of th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utside the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The iStud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DSCN0875"/>
          <p:cNvPicPr/>
          <p:nvPr/>
        </p:nvPicPr>
        <p:blipFill>
          <a:blip r:embed="rId1"/>
          <a:stretch/>
        </p:blipFill>
        <p:spPr>
          <a:xfrm>
            <a:off x="6324480" y="3200400"/>
            <a:ext cx="2608560" cy="26668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42" name="Picture 7" descr="j0414104"/>
          <p:cNvPicPr/>
          <p:nvPr/>
        </p:nvPicPr>
        <p:blipFill>
          <a:blip r:embed="rId4"/>
          <a:stretch/>
        </p:blipFill>
        <p:spPr>
          <a:xfrm>
            <a:off x="2209680" y="2743200"/>
            <a:ext cx="4038840" cy="3171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990720" y="5335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ge Prepared and Career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http://www.tradesandtech.ethoscmg.com/Trades_and_Technology_Toolbox_paper_mill_Feb_2006.jpg"/>
          <p:cNvPicPr/>
          <p:nvPr/>
        </p:nvPicPr>
        <p:blipFill>
          <a:blip r:embed="rId5"/>
          <a:stretch/>
        </p:blipFill>
        <p:spPr>
          <a:xfrm>
            <a:off x="5486400" y="1847880"/>
            <a:ext cx="3162240" cy="23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http://www.okanagan.bc.ca/Assets/Departments+(Education)/Trades+$!26+Apprenticeship/Welding/Images/Welding+TradesACata+Image+07439g+18.jpg"/>
          <p:cNvPicPr/>
          <p:nvPr/>
        </p:nvPicPr>
        <p:blipFill>
          <a:blip r:embed="rId6"/>
          <a:stretch/>
        </p:blipFill>
        <p:spPr>
          <a:xfrm>
            <a:off x="609480" y="4038480"/>
            <a:ext cx="1746360" cy="261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http://www.acmestores.com/images/chef_marc2.jpg"/>
          <p:cNvPicPr/>
          <p:nvPr/>
        </p:nvPicPr>
        <p:blipFill>
          <a:blip r:embed="rId7"/>
          <a:stretch/>
        </p:blipFill>
        <p:spPr>
          <a:xfrm>
            <a:off x="6553080" y="3962520"/>
            <a:ext cx="2219400" cy="2895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8"/>
          <a:stretch/>
        </p:blipFill>
        <p:spPr>
          <a:xfrm>
            <a:off x="2590920" y="19051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9"/>
          <a:stretch/>
        </p:blipFill>
        <p:spPr>
          <a:xfrm>
            <a:off x="685800" y="16002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will receive a guaranteed, viable curriculum so that by June, 2008, the following percentage of student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luding subgroups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, SEL and Sp.Ed. Studen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t proficient or advanced as evidenced by these NCLB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.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219320" y="1600200"/>
            <a:ext cx="693396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et AYP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br>
              <a:rPr sz="29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need to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life long lear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assi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ready to take ri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problem-solve and think cri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look at things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work independently and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 and want to give back to the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integrity and sel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nis Littke-The Real Goals of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br>
              <a:rPr sz="29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need to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life long lear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assi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ready to take ri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problem-solve and think cri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look at things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work independently and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 and want to give back to the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integrity and sel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nis Littke-The Real Goals of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457200" y="1447920"/>
            <a:ext cx="84582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1st Century Learners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[iStock_000004404460XSmall_Target.jpg]"/>
          <p:cNvPicPr/>
          <p:nvPr/>
        </p:nvPicPr>
        <p:blipFill>
          <a:blip r:embed="rId1"/>
          <a:stretch/>
        </p:blipFill>
        <p:spPr>
          <a:xfrm>
            <a:off x="380880" y="609480"/>
            <a:ext cx="8455320" cy="5610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1066680" y="4191120"/>
            <a:ext cx="6782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uaranteed and viabl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1plc-515"/>
          <p:cNvPicPr/>
          <p:nvPr/>
        </p:nvPicPr>
        <p:blipFill>
          <a:blip r:embed="rId1"/>
          <a:stretch/>
        </p:blipFill>
        <p:spPr>
          <a:xfrm>
            <a:off x="152280" y="380880"/>
            <a:ext cx="8759880" cy="5834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838080" y="4343400"/>
            <a:ext cx="71629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fessional Learning Comm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http://clerccenter.gallaudet.edu/AcademicTeams/team6-7-8/images/discussing.JPG"/>
          <p:cNvPicPr/>
          <p:nvPr/>
        </p:nvPicPr>
        <p:blipFill>
          <a:blip r:embed="rId1"/>
          <a:stretch/>
        </p:blipFill>
        <p:spPr>
          <a:xfrm>
            <a:off x="1828800" y="83808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www.nclr.org/Image/oral/two%20girls%20talking.jpg"/>
          <p:cNvPicPr/>
          <p:nvPr/>
        </p:nvPicPr>
        <p:blipFill>
          <a:blip r:embed="rId2"/>
          <a:stretch/>
        </p:blipFill>
        <p:spPr>
          <a:xfrm>
            <a:off x="4495680" y="251460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://tbn0.google.com/images?q=tbn:2VvtIPTki1VKyM:http://bp0.blogger.com/_AS1aErDzEdI/R0_e3bJ2WrI/AAAAAAAAA14/q8PxtB-AUo4/s1600-R/Bangladesh%2B2007%2B11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58128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5486400" y="1981080"/>
            <a:ext cx="2438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su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572000" y="4038480"/>
            <a:ext cx="1676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rgu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572000" y="5334120"/>
            <a:ext cx="3429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erenc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09480" y="2209680"/>
            <a:ext cx="2210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cu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743200" y="3429000"/>
            <a:ext cx="1676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2438280" y="304920"/>
            <a:ext cx="46483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hentic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5:46:11Z</dcterms:created>
  <dc:creator>martin.galindo</dc:creator>
  <dc:description/>
  <dc:language>en-US</dc:language>
  <cp:lastModifiedBy>Janice Stearns</cp:lastModifiedBy>
  <dcterms:modified xsi:type="dcterms:W3CDTF">2009-03-11T17:02:34Z</dcterms:modified>
  <cp:revision>14</cp:revision>
  <dc:subject/>
  <dc:title>Slide 1</dc:title>
</cp:coreProperties>
</file>